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670-BC27-468E-8235-303D4A16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848-EACE-46A7-8BFD-9B41621A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00E-A0B9-4C1A-B387-1B412FBB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B10-41D5-4F85-A925-6547EF87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581-6EE8-46A1-B248-BAF354EC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82E-DEDD-4B80-830F-AE85E59D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12C-6510-4C28-9826-E539C88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464-1B07-4B08-B151-BABE2563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D49-C74C-4D31-A1D2-AB19CF6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A2F-8C94-4498-B958-ED8DE43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A13-26D3-480B-B548-C9E68A3F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62B-89FF-497F-A827-5A39BA8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37B8-FB3E-415C-9DEB-9E5D2829F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354800" cy="1270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373392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848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2680" y="152280"/>
            <a:ext cx="9031320" cy="548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029200"/>
            <a:ext cx="5335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50292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02920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407960"/>
            <a:ext cx="8305920" cy="5478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65530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6248520"/>
            <a:ext cx="1447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601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791320"/>
            <a:ext cx="15238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5791320"/>
            <a:ext cx="1676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5791320"/>
            <a:ext cx="1752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16:45Z</dcterms:created>
  <dc:creator>Graham</dc:creator>
  <dc:description/>
  <dc:language>en-US</dc:language>
  <cp:lastModifiedBy>Graham</cp:lastModifiedBy>
  <dcterms:modified xsi:type="dcterms:W3CDTF">2012-08-08T12:18:20Z</dcterms:modified>
  <cp:revision>2</cp:revision>
  <dc:subject/>
  <dc:title>Slide 1</dc:title>
</cp:coreProperties>
</file>